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D07C-EC9F-4B8E-BBA6-8CD1CF0DE26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A283-744F-4A63-AC15-D301F723E69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5ABC-FB9E-4DFB-BA29-B4E3CC927F1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714B-19DF-4C35-A554-DBB9984F2AD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E996-860A-466C-8ED6-661DF6AAA76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5BE4-D600-4C50-B3B6-85220081434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ECDA-3049-4204-92D5-9807B844424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EEA9-75B1-40C2-872D-75543F04FDF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37FF-1D14-47EB-882B-0F290A06A0F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41E3-0FE2-4631-B57D-C6AAB56E2B3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82AE-374A-4D6A-9DA6-B5669FA454D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334E-E317-4FC8-A0E9-6AFB23D5E77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D03A-D2BC-4B9B-B3EA-F9EAA3104C0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66EE-5C3D-48FD-9A8D-B1524B0CB36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39F0-6FFE-4C65-9863-F49D0D7DD64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A305-D10E-4821-8C9D-00DC700496A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F8B7-F168-4465-95CC-A504A747814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8B7B-668A-428F-8159-BF5DECAE268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92BE-74E8-4D6A-A694-213655D0B52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17B5-C0E8-4FCB-AC8B-F41B3C87035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45E3-4744-4EB3-8022-8FA35501880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7CCE-363F-4228-95F6-7A834D14261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4887-C222-4B9A-B866-71A9A73A116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7FEF-A164-4002-BD69-4CE627418F5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3AEF-B779-41D3-9D7F-37864CEE006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C385-AAF0-49B6-A8D1-26D5B639514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7AD4-2C28-4CAA-989B-B5D6C79B7F8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245B-6DB3-4AA6-AD19-7B675FE20BA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D967-C3B3-4271-884F-629CCF9F08B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1932-ED07-4DCB-B42A-CA347D4F529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C0F7-8035-4CF1-AEC2-F1F4E362375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F1DA-6D67-4617-9E39-434B1D7D250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6E88-653B-424D-B5EF-3CD75E908B3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C3DE-DD76-4AD3-BAF9-C97788CF982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A3CE-B6BE-4B95-AEB8-1C207BE91A4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CECE-617C-48DC-9537-67DC51DCEE9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D996-E859-4CAF-B613-4393E6E5FFD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3993-B75A-4743-A155-B7CBCA84871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0F60-B60D-4A5A-93EF-58601ADECB6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4859-F20F-4AEE-95F7-02254990B8E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5DDE-6D5C-4F6F-92F3-5677E10BFC1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A8A2-D92E-4E9D-86EC-B2E0094DAD2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ED47-5C14-4F82-AD60-7A363928D5F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2238-80C8-4A74-AFE6-D6E185078DF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8739-3FAF-42A4-8C6D-FE7CAF240DF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89BC-B43E-48D4-A85E-30D6D416414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2FE4-A037-453B-AA5C-43F2967B850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D828-A72A-4235-87D3-9202B9BEB70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029D-002E-4C14-82E5-35B0C915FB5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E97B-774B-4A0D-A09F-D4E8005EE9B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1DBA-4F74-4C6D-B531-0A3B274F3C6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0C45-E3E8-42D1-B5BB-E5BE8FBEC80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40E2-17BC-447E-8667-1C976F608C1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7DDB-1ABE-408C-BBA3-1A7EF364F29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27B6-84B4-4190-AD41-AD73FCFF8DF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9264-6C8A-45A4-971F-50A34E94FEB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C81-9CF2-420A-B24F-B7096D84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665-9188-4FBA-8536-D2C90429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75F-CDB9-45E9-8A02-3AB1BA52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944-CD51-4C2F-A32A-09DA205C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1199-BC44-49DE-AF94-9010389F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3445-7786-4D91-ABA0-E5E698CB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4B79-B870-46AC-8C15-073B8159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D26C-1390-4010-A14D-3626D637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67D8-A8BB-40B8-8485-BA47082B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0B18-4FFA-4C9B-BA1F-FD9E12BD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0DFD-779E-4F5C-B480-A07030DF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776-99FB-4184-BDC3-8DB9A946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9DB0-9BDA-40EC-BC00-E4992606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816B-F7DC-4758-9C3C-7E427500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16DE-2EE7-4142-B708-EB408CDC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D2E7-B0B8-4319-9BE2-C03EC05C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A7D0-79C3-4E20-BB66-43E43783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6A4-9A01-495B-A52A-4DCD8B34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404-1D32-424D-98AC-E8E61FC0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FC79-1B01-4D59-8253-CAB0811C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BCA-1723-435B-9B0F-EE09212B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738-EA90-41FE-BBA7-85A35671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E16-0C0C-4432-99F9-19C8A6F3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2A2-352B-4EA0-BACA-98342D0C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400"/>
            <a:ext cx="8556480" cy="1052280"/>
            <a:chOff x="0" y="14400"/>
            <a:chExt cx="8556480" cy="1052280"/>
          </a:xfrm>
        </p:grpSpPr>
        <p:sp>
          <p:nvSpPr>
            <p:cNvPr id="1" name=""/>
            <p:cNvSpPr/>
            <p:nvPr/>
          </p:nvSpPr>
          <p:spPr>
            <a:xfrm>
              <a:off x="673200" y="1224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84080" y="5446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14400"/>
              <a:ext cx="8556480" cy="1052280"/>
              <a:chOff x="0" y="14400"/>
              <a:chExt cx="8556480" cy="105228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122400"/>
                <a:ext cx="4381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360" y="544680"/>
                <a:ext cx="4222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471600"/>
                <a:ext cx="560160" cy="422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35040" y="14400"/>
                <a:ext cx="31680" cy="1052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30120" y="776160"/>
                <a:ext cx="8226360" cy="32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85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C935-9047-4F20-A485-B0E786695B3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69997CAC-A107-4FAB-BC3D-A8D86C528A59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5</a:t>
            </a:fld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05B9-C279-4B58-BADD-1259895B837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093080" y="1440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Haettenschweiler"/>
              </a:rPr>
              <a:t>CHAPTER seven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DDD9-70AE-4C59-9D1F-2BBA7E3AB320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</a:t>
            </a:r>
            <a:fld id="{42D3C0E5-5639-41A8-9704-112B290E9629}" type="datetime10">
              <a:rPr b="0" lang="en-US" sz="1400" spc="-1" strike="noStrike">
                <a:solidFill>
                  <a:srgbClr val="1c1c1c"/>
                </a:solidFill>
                <a:latin typeface="Tahoma"/>
              </a:rPr>
              <a:t>17: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2274-E3A0-4B89-842D-8A1C702AF88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29718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离散数学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Discrete Mathematic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05C-DC3C-4A4D-9F1C-1D8FF778DE2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F0C7D-4180-48A7-B5FA-BADCE75D3F12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189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小非平面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125360"/>
            <a:ext cx="835164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在非平面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任意删除一条边，所得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平面图，则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极小非平面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定义不难看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,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是极小非平面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极小非平面图必为简单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37372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中所示各图都是极小非平面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3500280"/>
            <a:ext cx="7777080" cy="155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8C2-2247-4FA1-A885-5EFB2B39995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08FEF-8CAC-4B09-A5F0-A6E8B00C0B95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4437000"/>
            <a:ext cx="79916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欧拉公式的推广）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具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个连通分支的平面图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中对各连通分支用欧拉公式，并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122880" y="5122800"/>
                <a:ext cx="20098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835280" y="18576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7.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欧拉公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1374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面的连通平面图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此公式称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欧拉公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对边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归纳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平凡图，结论为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结论为真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分情况讨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无圈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树，删除一片树叶，用归纳假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否则，在某一个圈上删除一条边，进行讨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2C5-01A6-4D60-8D17-80A7D055BBE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DF16F-93AE-446A-9101-79F73558395A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68640" y="1459080"/>
                <a:ext cx="20732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609560" y="2738520"/>
                <a:ext cx="54565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171440" y="3622680"/>
                <a:ext cx="18320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860480" y="5637240"/>
                <a:ext cx="24004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H="1">
            <a:off x="394560" y="37152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解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680" y="5083560"/>
            <a:ext cx="64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17.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具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个连通分支的平面图中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5280" y="22860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欧拉公式有关的定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20880" y="1052640"/>
            <a:ext cx="70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连通的平面图，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eg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46080" y="242244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证  由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欧拉公式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8080" y="4508640"/>
            <a:ext cx="278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推论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,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平面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334-8264-4D2E-841E-DA207B0F89C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70E67-8EE2-46FA-B808-F0899CB3B021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13777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17.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边的简单平面图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证  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个连通分支，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树或森林，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否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含圈，每个面至少由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条边围成，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056040" y="2467080"/>
                <a:ext cx="202716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324000" y="3999600"/>
            <a:ext cx="836136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349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17.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）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条边的极大平面图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=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证  由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7.4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欧拉公式及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7.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所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17.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简单平面图，则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证  阶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结论为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7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时，用反证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否则会推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6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这与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7.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矛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22860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欧拉公式有关的定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48600" y="3357720"/>
            <a:ext cx="49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达到最大值，由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.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C37-3DF0-4331-A769-1507762BF91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A3921-2993-4CB3-AF19-03D511045CC8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35280" y="22860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7.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面图的判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12536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和消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消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见下图中，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见下图中，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0" b="11239"/>
          <a:stretch/>
        </p:blipFill>
        <p:spPr>
          <a:xfrm>
            <a:off x="1979640" y="3284640"/>
            <a:ext cx="4824360" cy="1885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102400" y="5249880"/>
            <a:ext cx="40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                                    (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9B3-CB93-4807-AE0E-42F7DF332F5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25207-3174-4EA8-9B09-8D66471B4744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9640" y="119592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见下图所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-2468" t="2628" r="-3686" b="21881"/>
          <a:stretch/>
        </p:blipFill>
        <p:spPr>
          <a:xfrm>
            <a:off x="1692360" y="1628640"/>
            <a:ext cx="5616360" cy="1893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4360" y="3573360"/>
            <a:ext cx="7775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之间的同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或经过反复插入或消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后所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同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35280" y="22860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的同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rcRect l="0" t="0" r="0" b="11239"/>
          <a:stretch/>
        </p:blipFill>
        <p:spPr>
          <a:xfrm>
            <a:off x="4716360" y="4869000"/>
            <a:ext cx="3672000" cy="1434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097280" y="5084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右边两个图同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F76-AB6F-4749-9263-72956F49218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39113-981A-41D5-B832-029100473B5F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平面图判定定理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052640"/>
            <a:ext cx="8424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平面图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不含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,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胚的子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平面图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无可收缩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,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子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2349360"/>
            <a:ext cx="2808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所示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均为非平面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708360" y="2106720"/>
            <a:ext cx="4032360" cy="1972440"/>
            <a:chOff x="3708360" y="2106720"/>
            <a:chExt cx="4032360" cy="197244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3708360" y="2106720"/>
              <a:ext cx="403236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212360" y="3619440"/>
              <a:ext cx="279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                       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68360" y="4473720"/>
            <a:ext cx="316872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右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,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, 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子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,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708360" y="4221000"/>
            <a:ext cx="4643280" cy="2117160"/>
            <a:chOff x="3708360" y="4221000"/>
            <a:chExt cx="4643280" cy="21171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rcRect l="0" t="0" r="0" b="4131"/>
            <a:stretch/>
          </p:blipFill>
          <p:spPr>
            <a:xfrm>
              <a:off x="3708360" y="4221000"/>
              <a:ext cx="41767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779640" y="587844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子图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1)                        (2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6FDC-30D2-499A-9772-6813C608A49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D4FA1-707A-4227-9F94-9448F9257C6B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7.4 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平面图的对偶图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某平面图的某个平面嵌入，构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偶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放置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顶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任意一条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面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公共边界上，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，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位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顶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即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=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与其它任何边相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桥且在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边界上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端点的环，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=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FE5-B013-4584-8192-0CC39EFE2E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57E7D-2AEE-4421-A337-6B2FB01FB337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769760" y="1195920"/>
            <a:ext cx="48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两图中，实线边图为平面图，虚线边图为其对偶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55969" b="0"/>
          <a:stretch/>
        </p:blipFill>
        <p:spPr>
          <a:xfrm>
            <a:off x="1116000" y="2276640"/>
            <a:ext cx="3456000" cy="3489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实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rcRect l="57817" t="0" r="0" b="0"/>
          <a:stretch/>
        </p:blipFill>
        <p:spPr>
          <a:xfrm>
            <a:off x="4716360" y="2349360"/>
            <a:ext cx="3311640" cy="348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78A-5B87-466B-A8D7-2AF76B6993D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E93D5-D671-4023-9A30-26EF24AAD508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偶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以下性质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平面图，而且是平面嵌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连通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环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应的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桥，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桥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应的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多数情况下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多重图（含平行边的图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构的平面图（平面嵌入）的对偶图不一定是同构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上面的例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对偶图的性质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ABC-6360-4029-B9F5-5967808221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EBD9F-3600-4A79-8BE9-9EF84534A28A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511200" y="2178000"/>
          <a:ext cx="14792400" cy="98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2178000"/>
                    <a:ext cx="14792400" cy="98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第十七章 平面图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章的主要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面图的基本概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欧拉公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面图的判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面图的对偶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A1E-C5C5-448C-BDEC-E35D198E40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4870D-3F56-45DA-9B70-96155F4C55E1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平面图与对偶图的</a:t>
            </a:r>
            <a:br>
              <a:rPr sz="1800"/>
            </a:b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阶数、边数与面数之间的关系</a:t>
            </a:r>
            <a:endParaRPr b="1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连通平面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偶图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顶点数、边数和面数，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顶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deg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线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用欧拉公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证明中注意，桥只能在某个面的边界中，非桥边在两个面的边界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6FE-C413-4ABB-8F60-C96072FA865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855C1-DC65-4196-826E-C4546E30FE46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平面图与对偶图的</a:t>
            </a:r>
            <a:br>
              <a:rPr sz="1800"/>
            </a:b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阶数、边数与面数之间的关系</a:t>
            </a:r>
            <a:endParaRPr b="1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具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个连通分支的平面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偶图，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顶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deg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.17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应同时应用欧拉公式及欧拉公式的推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352-3A67-46A1-B828-241355F7F2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B7117-ABC8-403D-A538-4B25E71FCD3B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自对偶图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平面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偶图，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自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对偶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轮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义如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边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放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顶点，使这个顶点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的所有的顶点均相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简单图称为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阶轮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的轮图称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奇阶轮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偶数的轮图称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偶阶轮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轮图记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轮图都是自对偶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中给出了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画出它们的对偶图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而说明它们都是自对偶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60016" t="0" r="0" b="0"/>
          <a:stretch/>
        </p:blipFill>
        <p:spPr>
          <a:xfrm>
            <a:off x="6467400" y="3798720"/>
            <a:ext cx="1849680" cy="2006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rcRect l="0" t="0" r="60016" b="0"/>
          <a:stretch/>
        </p:blipFill>
        <p:spPr>
          <a:xfrm>
            <a:off x="4500720" y="3860640"/>
            <a:ext cx="1782720" cy="19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1F78-438C-44BB-BF3D-A71B5F2436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7366D-1B20-4570-B9A8-BB0D328CF220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第十七章 习题课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28036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面图的基本概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欧拉公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面图的判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面图的对偶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基本要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深刻理解本部分的基本概念：平面图、平面嵌入、面、次数、极大平面图、极小非平面图、对偶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牢记极大平面图的主要性质和判别方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熟记欧拉公式及推广形式，并能用欧拉公式及推广形式证明有关定理与命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用库拉图斯基定理证明某些图不是平面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住平面图与它的对偶图阶数、边数、面数之间的关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428-00AB-43A6-A906-565DCFFBFFD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69D04-D024-4117-88CB-E4E5745ED092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136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 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阶数、边数、面数分别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否则，由欧拉公式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&gt; 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5 (2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                       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握手定理又有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①与②得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                                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有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&lt;12                           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④及②又可得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30                               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矛盾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十二面体是一个反例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1125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连通的简单的平面图，面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存在次数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举例说明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结论不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F79-07BC-404A-AFE3-5B3765795D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B8035-C95B-42B7-B22D-C9F30DE988AF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468360" y="1125360"/>
            <a:ext cx="7920000" cy="532800"/>
            <a:chOff x="468360" y="1125360"/>
            <a:chExt cx="7920000" cy="532800"/>
          </a:xfrm>
        </p:grpSpPr>
        <p:sp>
          <p:nvSpPr>
            <p:cNvPr id="212" name=""/>
            <p:cNvSpPr/>
            <p:nvPr/>
          </p:nvSpPr>
          <p:spPr>
            <a:xfrm>
              <a:off x="468360" y="1125360"/>
              <a:ext cx="79200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.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阶数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无向平面图，证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      不可能全是平面图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6429240" y="1184400"/>
                  <a:ext cx="35748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G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539640" y="1965600"/>
            <a:ext cx="8136000" cy="4589280"/>
            <a:chOff x="539640" y="1965600"/>
            <a:chExt cx="8136000" cy="4589280"/>
          </a:xfrm>
        </p:grpSpPr>
        <p:sp>
          <p:nvSpPr>
            <p:cNvPr id="215" name=""/>
            <p:cNvSpPr/>
            <p:nvPr/>
          </p:nvSpPr>
          <p:spPr>
            <a:xfrm>
              <a:off x="539640" y="1965600"/>
              <a:ext cx="8136000" cy="45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证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只需证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和    中至少有一个是非平面图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采用反证法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否则     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都是平面图，下面来推出矛盾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与     的边数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应满足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边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由鸽巢原理知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或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不妨设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          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192320" y="3056040"/>
                  <a:ext cx="35532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G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246320" y="2565360"/>
                  <a:ext cx="355320" cy="4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G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2903400" y="2048040"/>
                  <a:ext cx="35568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G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067280" y="2924280"/>
                <a:ext cx="2031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076720" y="3508200"/>
                <a:ext cx="13939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50920" y="4074480"/>
            <a:ext cx="84978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又由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1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知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                                 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由②与③得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4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                            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④解得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                                      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矛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实，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9,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命题结论已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2A1-C2CB-44C1-8E1A-65E3479F0D40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BEDE6-B9C8-4454-A4E9-4BB44EA6CC98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11280" y="11959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下图为非平面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52185" t="12276" r="0" b="20111"/>
          <a:stretch/>
        </p:blipFill>
        <p:spPr>
          <a:xfrm>
            <a:off x="2771640" y="2133720"/>
            <a:ext cx="2881440" cy="248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451-53C4-4B4D-9747-497244451EB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563B5-BA31-4309-8F47-CAA84CB96245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证明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3827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 用库拉图斯基定理证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图为原图的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，它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,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由库拉图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基定理得证命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27640" y="1352520"/>
            <a:ext cx="4390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图为原图的子图（删除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收缩本图中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得图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库拉图斯基定理得证命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60011" t="8884" r="0" b="16209"/>
          <a:stretch/>
        </p:blipFill>
        <p:spPr>
          <a:xfrm>
            <a:off x="5357880" y="3213000"/>
            <a:ext cx="2468520" cy="2737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187280" y="3213000"/>
            <a:ext cx="2737080" cy="26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240-A3F8-48BD-AA97-52BD717223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FDCEB-F429-401B-8C40-223C92119A68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320880" y="5373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15800" y="5366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1124280"/>
            <a:ext cx="8569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阶极大平面图，证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偶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边连通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则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227664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 证明中用上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极大平面图的性质，以及平面图与对偶图的关系，对偶图的连通性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连通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连通性可知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又因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极大平面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，故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简单图，所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无桥（因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无环），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连通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则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易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简单图，且每个顶点的度数均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由定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.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决定），故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则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ED2-21CA-4FEE-8828-62C8ED324139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BD532-A783-42BF-BF77-2395638BBECE}" type="datetime8">
              <a:rPr lang="en-US"/>
              <a:t>07/31/26 17:15</a:t>
            </a:fld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5659920"/>
            <a:ext cx="81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图中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平面嵌入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平面嵌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189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7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面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基本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125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可嵌入曲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能将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顶点外无边相交地画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可平面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平面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嵌入平面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平面嵌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画出的无边相交的平面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非平面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无平面嵌入的无向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55640" y="3068640"/>
            <a:ext cx="7632720" cy="2404440"/>
            <a:chOff x="755640" y="3068640"/>
            <a:chExt cx="7632720" cy="240444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rcRect l="0" t="0" r="0" b="29192"/>
            <a:stretch/>
          </p:blipFill>
          <p:spPr>
            <a:xfrm>
              <a:off x="826920" y="3068640"/>
              <a:ext cx="756144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55640" y="5013360"/>
              <a:ext cx="72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                   (2)                     (3)                        (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DAD-DAD7-4338-90A5-C78D996EC78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647AA-6604-42A4-8DFE-C8A57D432A6C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几点说明及一些简单结论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所谈平面图不一定是指平面嵌入，上图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图都是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面图，但讨论某些性质时，一定是指平面嵌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,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不是平面图（待证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平面图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是平面图（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非平面图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是非平面图（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由此可知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,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是非平面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行边与环不影响平面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0CE-4B7E-4C38-A7FF-4F20CC454C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EBF66-3A64-4321-BB53-C1626A65B089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平面图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平面嵌入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的面与次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2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由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平面嵌入的边将平面化分成的区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无限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外部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（可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）——面积无限的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有限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内部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可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表示）——面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限的面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面 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R</a:t>
            </a:r>
            <a:r>
              <a:rPr b="1" i="1" lang="zh-CN" sz="2400" spc="-1" strike="noStrike" baseline="-25000">
                <a:solidFill>
                  <a:srgbClr val="a50021"/>
                </a:solidFill>
                <a:latin typeface="Times New Roman"/>
              </a:rPr>
              <a:t>i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的边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包围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回路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面 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R</a:t>
            </a:r>
            <a:r>
              <a:rPr b="1" i="1" lang="zh-CN" sz="2400" spc="-1" strike="noStrike" baseline="-25000">
                <a:solidFill>
                  <a:srgbClr val="a50021"/>
                </a:solidFill>
                <a:latin typeface="Times New Roman"/>
              </a:rPr>
              <a:t>i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的次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界的长度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eg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A89-F352-4A45-950F-F18772CEA8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1538F-6F01-419A-8EB9-8E3F7B4CA8CD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56646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面图各面次数之和等于边数的两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几点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09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平面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面，可笼统地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，不需要指出外部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.2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回路组是指：边界可能是初级回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可能是简单回路，也可能是复杂回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特别地，还可能是非连通的回路之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27640" y="3213000"/>
            <a:ext cx="3673440" cy="2057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26920" y="3605040"/>
            <a:ext cx="31165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面图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面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eg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1, deg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3, deg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2, deg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8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写各面的边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AD4-826F-4F71-AD17-2A68720ED7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A5ADE-FE31-4A44-BB7B-C0458D20CB9B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极大平面图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1471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在简单平面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任意两个不相邻的顶点之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一条新边所得图为非平面图，则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极大平面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：若简单平面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已无不相邻顶点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然是极大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面图，如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凡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是极大平面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3357720"/>
            <a:ext cx="8137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极大平面图的主要性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极大平面图是连通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线索：否则，加新边不破坏平面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9417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阶极大平面图中不可能有割点和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线索：由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知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若有桥，则一定有割点，因而只需证无割点即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还是反证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0AE-7935-4E06-B507-78C3B282EB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EDD4C-9AA2-408A-9CB4-DF02A3332DB4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2057040"/>
            <a:ext cx="46083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线索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为简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面图可知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个面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数均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平面图，又为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平面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可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在次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给出的图讨论即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极大平面图的性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1667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阶极大平面图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每个面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数均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932360" y="2133720"/>
            <a:ext cx="3600360" cy="297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3D7-5F74-4348-AF8E-F0BEF875466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18440-C0ED-4317-85D7-625CD766F4FF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1197000"/>
            <a:ext cx="82087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.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条件也是极大平面图的充分条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7.7</a:t>
            </a:r>
            <a:r>
              <a:rPr b="1" lang="zh-CN" sz="2400" spc="-1" strike="noStrike">
                <a:solidFill>
                  <a:srgbClr val="a50021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平面图，且每个面的次数均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极大平面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定理的应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80160" y="5373720"/>
            <a:ext cx="28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图中，只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极大平面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9640" y="2757600"/>
            <a:ext cx="7850160" cy="2402640"/>
            <a:chOff x="539640" y="2757600"/>
            <a:chExt cx="7850160" cy="2402640"/>
          </a:xfrm>
        </p:grpSpPr>
        <p:grpSp>
          <p:nvGrpSpPr>
            <p:cNvPr id="142" name=""/>
            <p:cNvGrpSpPr/>
            <p:nvPr/>
          </p:nvGrpSpPr>
          <p:grpSpPr>
            <a:xfrm>
              <a:off x="539640" y="2757600"/>
              <a:ext cx="7850160" cy="1768320"/>
              <a:chOff x="539640" y="2757600"/>
              <a:chExt cx="7850160" cy="1768320"/>
            </a:xfrm>
          </p:grpSpPr>
          <p:pic>
            <p:nvPicPr>
              <p:cNvPr id="143" name="" descr=""/>
              <p:cNvPicPr/>
              <p:nvPr/>
            </p:nvPicPr>
            <p:blipFill>
              <a:blip r:embed="rId1"/>
              <a:srcRect l="71504" t="0" r="0" b="0"/>
              <a:stretch/>
            </p:blipFill>
            <p:spPr>
              <a:xfrm>
                <a:off x="5652720" y="2828880"/>
                <a:ext cx="2737080" cy="161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2"/>
              <a:srcRect l="0" t="0" r="75312" b="0"/>
              <a:stretch/>
            </p:blipFill>
            <p:spPr>
              <a:xfrm>
                <a:off x="539640" y="2801880"/>
                <a:ext cx="2448000" cy="166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3"/>
              <a:srcRect l="32338" t="0" r="42975" b="0"/>
              <a:stretch/>
            </p:blipFill>
            <p:spPr>
              <a:xfrm>
                <a:off x="2987640" y="2757600"/>
                <a:ext cx="2592360" cy="1768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6" name=""/>
            <p:cNvSpPr/>
            <p:nvPr/>
          </p:nvSpPr>
          <p:spPr>
            <a:xfrm>
              <a:off x="828360" y="4700520"/>
              <a:ext cx="66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1)                             (2)                                (3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C6F-87B2-4D3D-BAC4-E2B7EDFEA7E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24DB6-B36E-455C-B00B-14C8AF01CA51}" type="datetime8">
              <a:rPr lang="en-US"/>
              <a:t>07/31/26 17:15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8:47:55Z</dcterms:created>
  <dc:creator>hlj</dc:creator>
  <dc:description/>
  <dc:language>en-US</dc:language>
  <cp:lastModifiedBy>999宝藏网</cp:lastModifiedBy>
  <dcterms:modified xsi:type="dcterms:W3CDTF">2012-05-17T00:58:05Z</dcterms:modified>
  <cp:revision>217</cp:revision>
  <dc:subject>ch1</dc:subject>
  <dc:title>lisan</dc:title>
</cp:coreProperties>
</file>